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D0EC-1DCD-4760-AE5B-B861EFDD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236F-9119-438C-A6A5-B035EAD7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CA52F-12C0-4BDE-B5C4-B9B90536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DCA58-F9A3-4396-BC69-64A220FE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3B09E-2652-4F0E-85A5-EBFE2F80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E1154-8189-466F-AC7B-0BF02B1F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7E65F-9D06-4FFA-A3CB-BA91CBC7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81C81-5F35-4A56-B61D-18A10651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0EA06-E149-41FC-95E1-F7259F9E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99162-5744-4D38-BA82-270AE937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F5D14-40FB-4957-B8CF-90954085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B00578-BE1D-4997-92B7-B2138A9E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5725-8805-40AC-9506-84CDF6EF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875F08-DEF7-4523-8D9F-77E90DC2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F2EA77-D88B-4644-9547-0FBEE02C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BD2987-7463-4985-8455-00A03ED7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0C8F6C-EFCD-4B7D-9C2B-59788326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11B101-42E2-4C61-AD1D-75D97947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12D3B2-94D4-4517-8CF9-CB231283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7DA00E-A5CA-4E4F-82C6-55614142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ABBFF1-489D-42C8-B478-A770FD95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DBC816-7E10-4183-A156-06826AC3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A47A54-F5B5-48F7-A335-51E7ABB07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DEF3-AEDF-4524-948D-849D61D5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D103C8-AB66-4B0D-8AEB-51BF4CDC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6EFB-3F26-4C5A-908A-F1C83F9B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9FDB-2913-41A3-B4C8-DF800410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9B29-AAE6-49DA-9E6D-D29FE1D0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9107-42A2-4A89-BF32-E29F8EF3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B78B-8F6D-43D2-9473-72EC7F4A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7504-C5E5-4567-AD7B-4409E78B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957B-919A-4F32-BC25-D941BCE6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2220-AB4C-43DD-967F-AC315244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AEC7-37B7-4D82-A53F-0EA63F6D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8763-BA02-43C4-A1CA-57B83B4E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1DF0-CFA5-47D9-9598-E64516A3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D3DF-5581-4FA1-B9E0-2FA7D996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EE6A-B463-4FB4-B60A-44C0CA63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8DFFD-0761-4071-B352-592681F3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636DB-D3E9-4CBD-91D6-7E1F20F7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4B5E3-48B7-4EE1-A38A-8AE7AE2C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9D3F4-801C-41D3-86E8-D72246EB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C503D-ADB5-4B6D-B353-C61CD3D4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6E06-B4F5-4BF4-B9E7-DF1F69F8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12DF1-BD32-4BF2-AEB8-47C1A2ED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22694-6622-4CFE-A114-406895E4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37CE7-E6EF-40F4-9979-C6E6C581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58AE2-9718-463D-865E-2265B961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B743C-05C4-4664-8625-868EA69C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50BDF-81DB-4749-8832-F1ABB6C4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D9EBA-122C-4377-AA81-7EF6F785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F6258-4650-471D-86D3-15C3F456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21E44-21BB-4C5A-932A-1EB11342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45676-7C5A-4758-AC92-FAE07F13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8A50-1B11-40D0-A97F-4B4C1174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60122-2A52-49E5-B87E-5025FE2B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23A42-FCEF-4A4D-B8A6-A5D8C370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5C5A6-E0E8-4356-A2E4-E3498698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7CCDD-68CE-45AF-88ED-8345A8B9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E4E50-9DDA-4899-9470-EA0586AD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49C03-CD95-430C-AAE8-54C530B5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986AA-EDDC-4466-A535-60B9088E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301C6-E0BA-4F2F-90F1-191F0ACA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D82A0-0E8C-4C98-9907-BD422C98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56CE7-990D-4E0F-984E-F4D220A3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9BD8-97F3-4CF0-AE68-8A2CF471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0EA90-9717-43CA-9EC2-62EBC56A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8B782-762E-4EE0-891D-0BEF96D1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E6F80-5A39-4359-8023-79110ED2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E49A8-7E3E-4561-8619-1ACE8156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01D7E-24D9-42FF-9358-96685CD3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AAC43-B5D8-4B6B-888E-EDEA27BB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1631F-9A10-4A13-8EE7-6CEA8E9B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BF850-0926-4553-B55B-94FB7CCB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C9AA7-EABA-46B5-A6DC-EAC959F0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E9682-8463-4A24-9AAD-13B247E9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C92D-A17D-4E37-8CA8-84AF37A0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F1D63-6CF9-49A8-839E-CA4A5ED4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694B9-B70C-4FFD-964A-C526069F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F1D73-0951-4B07-A875-86737EEB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EBFF7-A221-4827-88FC-DF1A8694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838E6-9FAF-4F29-BF88-BEADA41E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7E92B-6C41-4327-A042-9E5D10C7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30E53-A380-4E90-8E9C-E55A82FF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AB54C-D34C-4726-8FDE-9B4156DC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129F7-8DCE-40B5-9DEB-441C6AE2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AF5F1-C7FE-42F0-919F-19DE143D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803B-342B-489A-9775-0D9279D8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270B1-70F8-4703-BEE4-3117F880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1F036-1F81-427F-ABDF-8975938C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FA76A-60BB-4581-880F-08C52040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B95B0-9BBF-4EFC-875D-4056D0B0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E0A51-7965-444B-B510-FBF4256D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36967-D85D-457D-B52E-6D099AEA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1CE0C-959B-4339-A602-B4862DD1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D9B31-ECD6-4425-A8AD-91B0AA8A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0C490-4793-4E14-AF70-F609C72B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F52C2-56E8-4140-A0E8-68369AC6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8F71-A7C6-4B0F-B349-BDD83D98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E4F21-8D23-4B6D-8D30-120B75F0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542D6-2556-4EE4-B80C-0377977F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2F57B-9BB2-4425-8477-DAC9E27A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7EF6B-8980-4A6B-9C23-7214F54D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A48C3-C6BE-4527-B58E-40A4ACE1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551AE-179D-4DE0-B3C2-5109FD18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13CE9-E019-425A-8FF6-078A7E49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72AA3-3F06-41D7-BD6F-2F556FA0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D695C-AE5F-43EE-A218-653B44D3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EDA6C-B848-405F-8BB3-240A6BEA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2F27-8001-4BFC-B365-522FCA75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A4F45-16EB-4DC4-B423-6CD1EB37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4EA58-E3B5-4A59-B432-E1657BF9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A832E-D093-465D-B8D9-132E9DE8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03EE3-CFB5-47D5-A862-B9E68045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EC166-1E4D-40F0-A7A8-6EB93049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AA605-4DF4-4DE6-B58A-A2D47E1E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D863B-F266-4595-913D-1C323A77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7FF54-0AD1-4A51-8B73-6EA4B785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AA1C0-D14B-4612-B0AA-E938BCDE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7661D-A4F0-4179-9037-06D4FC48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0BBA-C32A-487C-9777-8AB71EF915C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8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8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8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9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C5A0-3F77-4E99-8EEE-878E325312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B0F2-21B0-46C2-8EE8-D63DAA906BF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56CF-FE86-4FEC-ADAE-C1B360E13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DE4D-A32E-41D3-B67D-319C997A1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7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0FD7-FCFD-4C90-AF9C-02DABB7E9F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4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PlaceHolder 1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B211-319E-458C-B08B-FC21033D79E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BA46-C22A-4628-98AC-4000BD13B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7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FBF9-50F8-477F-846A-1CBEC1C83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2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2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3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FC25-FE98-452B-92BC-D26FBC6FE1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Формирование самооцен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Мнение окружающих люд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Собственный жизненный опы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Степень воздействия на формирование нашей самооценки имеет значимость для нас мнения того или иного челове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 txBox="1"/>
          <p:nvPr/>
        </p:nvSpPr>
        <p:spPr>
          <a:xfrm rot="297000">
            <a:off x="726840" y="1123560"/>
            <a:ext cx="705636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мооце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685800" y="2142720"/>
            <a:ext cx="7696080" cy="33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здоровое отношение человека к самому 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чувство собственного достоинства и уверенности в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актор признания или непризнания человека окружающими людьми оказывает влияние на формирование у него правильного отношения к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 txBox="1"/>
          <p:nvPr/>
        </p:nvSpPr>
        <p:spPr>
          <a:xfrm rot="183000">
            <a:off x="826920" y="744120"/>
            <a:ext cx="71866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моува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С негативным подтекстом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Ты никогда не сможешь ничего добиться в своей жизни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Ты полная копия своего отца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Позитивное высказывание: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Вы напоминаете мне … Вы энергичны и решительны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Я ценю ваше умение выполнять поручаемую работу. Вы очень эффективный работник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619280" y="1197000"/>
            <a:ext cx="6265800" cy="50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269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 говорят о на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бладающего чувством самоуважен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крытый взгля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олова поднята; походка прям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разговоре выражает позитивное отношение к себ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 корит себя; ощущает принятие со стороны окружающих люд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увствует себя способным управлять ситуаци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ерет на себя ответственность и заботится о себ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меет здоровые привыч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042920" y="1052640"/>
            <a:ext cx="7201080" cy="71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851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арактеристика челове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С низкой самооценко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ячет глаза, старается отвести взгля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 ходьбе сутулится, вжимает голову в плеч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нижает собственное достоин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тоянно ощущает чувство в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способен управлять ситуац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заботится о себе, не несет ответственности за себя и свои действ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меет вредные привыч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755640" y="1052640"/>
            <a:ext cx="74167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9844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арактеристика челове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ногие используют еду как средство снятия напря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удачные попытки сбросить вес ведут к  потери самоува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вильная самооценка и уважительное отношение к себе помогает человеку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бросить вес, удержать его и полностью изменить свой стиль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755640" y="1052640"/>
            <a:ext cx="7254720" cy="7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789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зиимосвязь ожирения и самооценк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Необходим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рить в возможность повышения самооцен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ть пути повышения самооцен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547640" y="836640"/>
            <a:ext cx="640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ак повысить самооценку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Пять необходимых услов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Сознательно формируйте чувство самоуважения и верьте в собственную значим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Анализируйте свои чувства и эмо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Постарайтесь осознать, что эмоции и чувства являются продуктом ваших мыс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)Определите мысли вызывающие негативные эмо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ример: «Я – полный неудачник» или «эта задача мне не по силам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меняйте негативные мысли на позитивные: «Я не считаю себя неудачником, моя зависимость от еды – временное явление. Я смогу похудет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) Помните, что вы можете изменить себя, если измените свои мысл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Пять необходимых услов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Научитесь прощать себя и други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Окружите себя людьми, которые понимают и поддерживают вас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Находите для себя возможность ежедневно заниматься любимым дел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) чтение, занятие спортом, прогулка на свежем воздухе, прослушивание музыки, работа в сад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) помните о том, что утомление часто является скрытой формой депресс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0:32:42Z</dcterms:created>
  <dc:creator>Черевичная Вера Петровна</dc:creator>
  <dc:description/>
  <dc:language>en-US</dc:language>
  <cp:lastModifiedBy>Черевичная Вера Петровна</cp:lastModifiedBy>
  <dcterms:modified xsi:type="dcterms:W3CDTF">2007-02-08T10:59:59Z</dcterms:modified>
  <cp:revision>2</cp:revision>
  <dc:subject/>
  <dc:title>Слайд 1</dc:title>
</cp:coreProperties>
</file>